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F86F-F920-417F-B9FA-1B8F8441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0476-8EF4-448C-B582-BA08D44C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462D-8D35-4495-BCC1-4C6BEC54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9C8C-6CB6-4BDB-9293-FBF4E977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61B46-59CE-4816-857C-9E6C42FA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177CA-281E-4FFE-A803-09E922CC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509AD-9CDE-40B9-B3C1-3E39D0E7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DC132-A428-4B09-B131-C0CE2C18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A0FE7-AA5E-4AFB-BD2D-0A444230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4A4EB-6011-4EC5-9774-8718F4DC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8A000-26B8-4BDA-ACBA-9222698C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511A-F6CC-4F7A-95C7-ADA6336F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ECD34-ECB4-442D-8892-0F4DA8C5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96231-839B-4B1A-A197-10051697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3C72B-DB48-449E-A7A0-703F7650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A6B7A-3003-478D-BC8D-02D7F21D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808B4-C205-438E-B765-710F028D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A129-D117-440B-8E93-59691885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5C9-3F28-4D53-9264-5679FAE4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8349-A357-4B55-A191-41FC01C5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3303-2F5D-4119-BBB2-6AE93553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2AF3-F9D9-4F36-9B05-F42EDDB1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AD8-36AC-47D6-ADB5-89292D6F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D6AF-F466-43FB-866E-981E8964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2D5C-828D-4AD8-9AF2-3F8B35D8B7D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E764-DE34-4B09-A2B5-CD506C23960A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IALA ANM 16 – Rapporteur Report </a:t>
            </a:r>
            <a:br>
              <a:rPr sz="3200"/>
            </a:b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Agenda item 5.4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Development of e-Navigation within AtoN Author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Gerry Br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Manager Aids to Navigatio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Australian maritime safety Author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6856560" y="40464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-NAV10/7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10920" y="1773000"/>
            <a:ext cx="806436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ed for standards &amp; regu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e-navigation test b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ridge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ser centr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discussion for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Outline of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3280" y="1915920"/>
            <a:ext cx="6624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Architecture – the shore-based perspecti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posed IMO Common Maritime Data Structure incl AtoN information standar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 developments in member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699320" cy="216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nformation Paper on the draft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ALA Recommendation e-NAV 140 on the e-Navigation Architecture – the shore-based perspective (Ed 2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55280" y="3141720"/>
            <a:ext cx="7993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is document establishes relevant principles for a shore-based system architecture harmonized for e-Navigation.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619280" y="47628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-Navigation - shipboard, shore-based and links in-between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403280" y="1916280"/>
            <a:ext cx="2720880" cy="2164680"/>
            <a:chOff x="1403280" y="1916280"/>
            <a:chExt cx="2720880" cy="2164680"/>
          </a:xfrm>
        </p:grpSpPr>
        <p:sp>
          <p:nvSpPr>
            <p:cNvPr id="92" name="Text Box 6"/>
            <p:cNvSpPr/>
            <p:nvPr/>
          </p:nvSpPr>
          <p:spPr>
            <a:xfrm>
              <a:off x="1403280" y="3253320"/>
              <a:ext cx="2720880" cy="8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aphicFrame>
          <p:nvGraphicFramePr>
            <p:cNvPr id="93" name="Object 5"/>
            <p:cNvGraphicFramePr/>
            <p:nvPr/>
          </p:nvGraphicFramePr>
          <p:xfrm>
            <a:off x="1735560" y="1916280"/>
            <a:ext cx="1588320" cy="142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35560" y="1916280"/>
                      <a:ext cx="1588320" cy="142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Oval 9"/>
          <p:cNvSpPr/>
          <p:nvPr/>
        </p:nvSpPr>
        <p:spPr>
          <a:xfrm>
            <a:off x="5940360" y="1773360"/>
            <a:ext cx="1989360" cy="1989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Object 10"/>
          <p:cNvGraphicFramePr/>
          <p:nvPr/>
        </p:nvGraphicFramePr>
        <p:xfrm>
          <a:off x="6227640" y="1916280"/>
          <a:ext cx="1455840" cy="164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27640" y="1916280"/>
                    <a:ext cx="1455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12"/>
          <p:cNvSpPr/>
          <p:nvPr/>
        </p:nvSpPr>
        <p:spPr>
          <a:xfrm>
            <a:off x="4356000" y="1844640"/>
            <a:ext cx="747720" cy="2008080"/>
          </a:xfrm>
          <a:prstGeom prst="rect">
            <a:avLst/>
          </a:prstGeom>
          <a:gradFill rotWithShape="0">
            <a:gsLst>
              <a:gs pos="0">
                <a:srgbClr val="aa3039"/>
              </a:gs>
              <a:gs pos="100000">
                <a:srgbClr val="f9432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3995640" y="1989000"/>
          <a:ext cx="1352520" cy="1197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5640" y="1989000"/>
                    <a:ext cx="1352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3"/>
          <p:cNvSpPr/>
          <p:nvPr/>
        </p:nvSpPr>
        <p:spPr>
          <a:xfrm>
            <a:off x="125892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onbo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579600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 </a:t>
            </a: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ashor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784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verarching e-Navigation architecture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14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611280" y="1413000"/>
          <a:ext cx="7956360" cy="52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956360" cy="52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The e-Navigation architecture with a focus on the shore-side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HO GI Registry, including the IALA dom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69780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Current and planned e-Navigation developments by IALA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7777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ustralia has established an e-Navigation consultation grou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n 2010-11, the Canadian Coast Guard prepared an e-Navigation vision/strategy with input from industry stakeholders (still a draf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reland are well advanced on AIS with 19 buoys and 10 lighthouses fitted - will roll out a total of 64 AIS AtoN in the next 2 yea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Norwegian Branch of the Nautical Institute held a seminar October 2010 – Lee Alexander was a key presenter and emphasised the need for mariners too define user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Thanks for your atten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05:19Z</dcterms:created>
  <dc:creator>gpb</dc:creator>
  <dc:description/>
  <dc:language>en-US</dc:language>
  <cp:lastModifiedBy>Mike Hadley</cp:lastModifiedBy>
  <dcterms:modified xsi:type="dcterms:W3CDTF">2011-06-17T08:08:33Z</dcterms:modified>
  <cp:revision>22</cp:revision>
  <dc:subject/>
  <dc:title>Slide 1</dc:title>
</cp:coreProperties>
</file>